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448-9E9F-4D47-9DDA-BDD117A9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236-502B-44EB-BE9D-436F5EAF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0F9-4B80-4636-969D-601B039D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1DF-F661-408F-B334-6FF58F7F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47C-E734-4C84-8687-014A1FD0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E7D-F8A3-44C6-B711-7F9A68D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683-D7C4-4CCC-B04E-FB3E9774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223-AC24-4C6D-8E9C-17644E67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C31-7DB5-41BC-B80B-97B225C0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5F5-FFF7-4DBF-A891-97766F1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2EC-7759-44AF-A4CC-01271489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4E3-2406-4103-B72E-C07CDAC1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1BE7-6A9F-4420-A359-9C4B6A17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241720"/>
            <a:ext cx="8458200" cy="210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137160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Numbers in Scientific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140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133720" cy="137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610080" y="1905120"/>
            <a:ext cx="3628800" cy="53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38440" y="2478240"/>
            <a:ext cx="3700440" cy="49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559320" y="2819520"/>
            <a:ext cx="10126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895480" cy="538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1386000"/>
            <a:ext cx="24382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62880" cy="52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3297240"/>
            <a:ext cx="7543800" cy="52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1722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Scientific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0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82296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6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6248520" cy="156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8077320" cy="68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04920" y="4343400"/>
            <a:ext cx="51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15400" cy="128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057400" cy="56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886200" y="1981080"/>
            <a:ext cx="2362320" cy="51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3341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4:42:31Z</dcterms:created>
  <dc:creator>Susannah Graham</dc:creator>
  <dc:description/>
  <dc:language>en-US</dc:language>
  <cp:lastModifiedBy>Susannah Graham</cp:lastModifiedBy>
  <dcterms:modified xsi:type="dcterms:W3CDTF">2009-08-05T01:57:50Z</dcterms:modified>
  <cp:revision>4</cp:revision>
  <dc:subject/>
  <dc:title>Lesson 8.2 Scientific Notation</dc:title>
</cp:coreProperties>
</file>